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86703-EA79-4D95-B857-512CB333E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09FFA-0D70-4D8E-8545-2C7ACBC3C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7D1BD8-5907-409E-8720-AE4E08FC9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7705CD-DCE9-4156-8010-6678994FF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B6F10D-F52E-4309-A5F0-16A535407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B0D8B7-DCFA-4DCF-8DE3-FE292AA8D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05EDA9-2770-434F-AF90-707A2CCB2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6FD0D1-2489-47CB-ACE6-952AF42F4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F049F6-36DB-4AF6-B566-05AFC0DAE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55424B-57DB-4057-8ADB-93D758A03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8B0282-2C79-4062-97D4-DFAD48EB3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6F7850-AFBD-4B7F-97CA-04E3F0603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15AE5-2FBE-409C-8D3B-9ECB82E11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C7E1ED-3A24-487A-8D14-38EDF2FFE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DBD57D-FA30-42CE-8E42-D9BAC623F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95A956-50E2-4247-B94D-8BDB8C26D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2206C1-2DCC-41DB-8CCF-B2333B0EE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A08ADA-5F00-4503-97DD-D1088A425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ADCE93-81F3-4683-A219-5FA2F37F8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54EC52-CCBC-401E-A42B-319BDCE32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9BEA12-2ADC-482C-9D3D-860E570D8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2B2EEF-D591-4E08-A357-21A2168E5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3F748E-C3E6-4ABF-974C-B03066B8B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98391-7074-4B6E-9BDF-7C488E0D5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CB3442-3C72-4247-B2F2-3DD03C3C6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7CEA0B-6988-4AB5-BA71-3404DBBE8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6EC97D-9AD2-47B1-B974-47BDEE083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19E9E9-9975-4EE7-8EEB-7CDFB0BE2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11DB25-90E4-4458-A721-CC869B8D9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7DDD36-369F-4BA2-B0A0-5FF5BF0C0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FE06D4-1C68-4FD6-AD80-904DC1084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2B6AF7-202E-48FD-9642-438FB0895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FB6C81-5952-41F8-854D-DAC9618DA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FF06F0-2DB4-4A61-B689-ED0773CC4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7885E-F8A8-49C6-B733-CF012FC59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FD2987-1964-43FD-A104-798DCB978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9E1472-6667-4725-8CAD-6DE6792F8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158926-905A-4CF4-83D9-3C061FB18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C8DC70-EB30-4964-B6A4-D49D83D12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31164A-2F16-463A-BB4D-F3771B8FF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1C4EFD-3335-4F50-B729-AFAB96D7D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52AA4A-B838-4E81-BAC6-B31BAB556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A78044-3B2A-420E-BD52-15E560E85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609733-569A-4BD2-87E2-97CB00576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EBA8E7-F797-4759-8D0E-07784803D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664DA-C54D-4D07-9FA7-866543290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7241C7-4C67-480E-918C-E0E4EE719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55B519-722B-4084-AEFE-484739406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58267C-1B23-4486-86E4-E20113421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8E0548-FE1E-4432-9722-189F0CDFB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BBADB4-C419-4D9E-A151-A349AF535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0E9B5BF-D0D4-41F5-8F4C-F188E6E2C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85F5F90-5F42-430E-98F7-6BFDDD1E3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20169A2-BBEC-49A0-B777-195A354D4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B39F64C-187B-4996-9C84-D772EE28F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4AC95AA-0E75-4BF0-8429-88EBB1D88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D5342-A383-4B10-B42F-552B5EA6E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48DAF12-CAEC-4B88-BA28-8BD3C79EC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4487CB7-CF1A-4317-90E2-39253BFB7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47E0C5D-D36E-4DBA-ADA7-768B60ACB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17164D1-9AE1-411C-9934-2C87705C0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AA73EA1-2299-4E3F-8CBD-8D1E1A5F8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D763FB1-B7E1-4056-9C79-FF8C63F26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0D27810-613C-4F48-8A0E-ADF85A558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B06E656-AA07-4A99-ABB6-CA5B5B48A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FCF9D5B-9C45-4F21-8A4A-F006D1654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C64125C-F535-433B-982A-F5A4F46A7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72EEC-B00E-4A54-A25F-CBF1337AD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8544EB9-A85F-44F0-B8D2-91A5C602E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9A45004-6E50-4A6D-A744-3B2275566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D812124-2A69-4DF6-862F-B1CA76832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9AB9391-7C15-45D7-8A27-B81580D19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06670C5-FDB8-49DA-8071-64C02D051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7DF6B7B-793A-4DDC-B3EE-824BC7D6E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CB9E7A3-16E8-4247-A61D-04A28FB94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5914158-BF51-491D-BAAD-C14D3D8EE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C2B817B-928A-4C96-BA09-21ABC5A4B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2497644-2002-40C7-821E-B541061EE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67F1F-2931-4D3F-9318-48FB05F5E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CF36447-4A25-450D-B7B1-43DFB837F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A858774-4963-46DD-AFAD-C32533AE5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FE7DF29-C141-4ECF-BB5F-D38D7BA48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7E28370-ACCE-41C4-A3F4-24EA8184C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84003D8-5630-448F-8D52-BD28607CC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346450A-2ABD-486A-94D4-BB578BABC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6794110-241D-4268-9A19-195A05E32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76A79C5-F307-4D9B-B0EB-F86562889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004EC46-E197-4659-96C2-26C0ED117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69BA337-4B54-450D-92D4-7C802455F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DEF7D-61A2-4429-8740-40C96663A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319DF8F-FF53-4127-8F42-706DC3549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02D0BE1-8A2D-4D3B-A6B9-9F674398C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0C47AF7-60C2-4989-BB7A-3DF81CBF1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AE2D582-B52B-407E-8905-9D078DE78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2A77700-9205-49DE-8B44-6F9FCD0BB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8C15CE3-9DBD-46B5-B134-E4FF8EA65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3EA7DB7-DB47-4F4E-AE20-0AFC1B804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42E8A59-3DD1-4630-9356-D3CB50A37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8EC65F0-16F2-4EFE-ABF4-40CE25A92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0661973-5AB0-4AB7-A6B5-BEBE40C46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42B55-F242-42FC-98AD-FCC144268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9D9ABE3-ECE6-413B-A02A-7829EA891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E5239F4-4AF2-452D-9F51-A6884C504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89FEB5E-5892-4353-AF9A-686D85CC3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87C32A9-D873-42EB-9E31-12FA0A9F1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911B69E-7D4B-4820-9E6E-7F51ADCA3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4EDDAD0-4C9F-4A0E-BA50-85339DC26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C4396A3-1996-4FA8-8F56-BB7239765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3C56D51-74F3-41EE-A230-776842DFA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ED451D7-E7DF-48D7-ADC8-2ABF97D4A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8D13DE9-CDEC-4E08-B2E7-047DD37CC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1670D-D750-44B3-94D6-FE9BCFDC7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13EBB-D768-4309-8746-88648A8DC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B471A30-1DB5-4D0D-A705-3F86C79EB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69377B3-4F85-46EF-8AF1-F87E34E07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4B05784-C316-4DB8-95F2-8A3E4CDD3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294203F-4301-414C-9DF0-1951137B2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1FA6167-B107-45B3-9870-A147F6E0B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181620C-5D10-4795-B6EE-B5790B2F9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B933C37-8015-445B-8EC8-A11CBCAF8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1FAFFCB-D03A-454B-B266-98D07B1C1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11DB0A7-359A-4BA3-A4E0-F6B596EB5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E3BACA7-4FBF-4F91-BB9D-C8CD7E1BF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F099F-822A-4379-ACA6-69306C480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28B43CA-80DC-4393-8D78-85A4B7EC5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112803D-5F40-4127-B908-798D510A5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5400B61-A097-41F3-8A91-2E6D9687F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790D5C2-6647-48FC-8CD0-842C2BFED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3FF1E1B-0F72-4C43-B9DE-55EDC0E77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829B0B4-C2F0-4EB3-A2C1-047B5CD1C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8A7E9D8-DFF4-4C55-8E87-C5EBB4134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600AB23-CBE6-49BE-AFBB-10712ADC3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3D3E756-E543-4D2D-BDB4-71FBC1A08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52E8CB6-55C8-4CC9-92C1-FAB3CDD38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F27F1-1262-4189-8B44-BB5CE6CB4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2CF5C09-6EE2-466D-AFD4-B0BB870FD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8DE2D1A-4A83-463F-B371-0437C3EA8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EF1BE9C-FB5F-413A-A37A-841F56688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FB9B6D7-FDC4-485F-9A97-05CD4A731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4704657-0490-4778-A93D-8AD5E62D7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D171112-4730-4A5B-9151-08A0E22EB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2E65CFC-01CB-471C-979C-983A1444E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313C027-35AD-4CAB-8D0D-AE6D4B477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B08A332-AEBF-44A0-8520-3B7FE7B59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C822588-5F4A-4D53-89FB-8A6CBA026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7C3DC-C17B-4DE1-BA14-042085A1D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4F30FD1-CA45-4E77-912C-981FD4FCC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4CF3FAA-7DE8-4A06-A016-6A168FC86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66DA038-0C48-4C72-B95C-78D864D59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BA34D09-89FD-4F41-956F-7AEBC3C85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258DFAD-D8AF-472F-8298-869C4061B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982F234-02AD-47FA-AD03-FD27D0B47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AF8D714-8391-451F-8136-A2AE222D0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4CF45DD-B826-4490-BE82-FA1DF0641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35E3C3B-F5D6-4CFC-8706-924C198FF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DE0F8DC-7CFB-4BE1-B1B0-12EC23CDB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70196-E505-45E7-868A-B1F2F59FF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228D1C5-98EE-4382-8CD6-FEAA441C5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7B3C6A0-0A8F-496C-8CED-2CA303D96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7F433D7-C361-4454-8165-89294B737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65FB563-727B-4598-B91F-FEABA287B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5313F4C-D0E5-4B3A-A3C6-441D169F7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035F2AB-9202-49F1-A724-FBBC6196C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8FAE15F-9825-44D7-A381-18C2DC03F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CEB3DE5-054F-4522-8577-E58D91539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3790CDC-EE2F-44EB-9AFA-C8D99D649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EE07C3E-1F54-4265-A7C0-F59A572C9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8653D6-EAA2-4655-81C4-6313A3260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3D258B8-2A6E-4ECB-907E-63A076015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EC98F13-A035-4473-BE16-5CFBF9486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5D6D189-1DF3-4FB0-AAED-C23836826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70CAF4-9E81-4246-8CCA-6EA1A5034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B32703-9A07-4EA3-BF90-9BB97DB54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0C0180-7C53-47E1-9D08-68C1F9739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542936-FA05-45F4-87E6-2189F18B1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F276E-AD0F-435D-9960-9E3697A82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0E1E8B-89F3-4574-B775-90DFF0212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C3FB4B-FC96-4AEF-880E-974B5DB2A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F46FA1-2BFB-4539-A23B-1CC931914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965B70-613D-477D-AD08-312B29BBA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3C3A34-3A49-4ED0-BA55-4455942A4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C12997-4247-4FA9-BC38-2BD01A76B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797267-6E46-4A00-9978-6EA583367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105EEA-6052-4400-B78A-393024353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CAB980-1120-42CB-A721-07449AE3E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14825D-63D9-4BB9-B530-0FF49DCE0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FB3DF-D1A1-4A4F-B7C9-CF7DA523C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CF27D4-E4D0-4689-8433-61E56E9A4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5B202E-65F3-49AF-8415-5EA14C477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A9C713-A826-430D-97D7-61BD0B5B0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7A9570-9B60-45B0-BE15-7014DF5B5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472C22-705A-48EF-925B-3E34553FD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FFDA37-8458-4684-A4C6-3849A74D6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BF4201-A84D-4C9B-86C3-54E610EF5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34BD57-C106-4CBA-A22B-BC009ED0C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DD7F44-5E53-4CC0-8A1D-D48CBD53B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175196-6040-49A8-AC50-3C0EA4E64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3EBFF-C07F-42CF-A67E-734DAF327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E22655-3FCF-45A1-9D6F-705F8C1D9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400CD5-754F-4371-95F4-E9867676B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4E89B8-5EAC-4B2B-A0B7-0FD88F2A9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82F3D9-E68D-462E-A223-0BEFC10D3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853718-7E14-4E8A-8C3C-70F7DDC6B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452C3C-CB17-43D6-A340-DF53932E5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6520DD-BBCF-47C3-8120-927EAE78B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451DE7-29F9-4DB0-AC16-5E0DCC8A7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6E2938-6910-4255-AC37-A7C6CD194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4C618D-4014-425B-A07B-D1A5AA455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4913A-4140-445C-8E7F-8360A5082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A92361-EE10-4817-B66B-4D76BDD3A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BC5369-11F5-4EE7-9B1F-CEA117DFD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D149A8-9AE8-45B9-B762-DAD62B4E9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28B4CB-639B-4BD7-9F3C-9DFBD37E0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E2899F-C844-4566-90AA-03644D238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B837CE-6BAA-4EE7-B6C7-C5A599B9A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D51E73-8406-4E2C-B295-A53374959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923C41-D13A-46BE-B5AD-3F7CA4395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7F3490-F20D-40BD-BBA0-48CF89A66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37DD47-64D6-466F-B6E7-C1D8C4ED3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0AF3E-0CBA-4FE8-92C9-3CCA3B9F1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5E6060-2CE0-4361-95D3-05BE2D15A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04ACDA-98ED-43E3-88C4-4A8498FE6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F56C70-3071-4D03-B7FE-48E638A8D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4C07AA-B1B0-400E-93B0-B3D9C41F2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17BDB6-5DFC-4779-8336-437EBD9D7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42DE74-12FF-46BF-B5C4-2473AF429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5032CA-6BFA-4143-9180-123D71465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9D6CF7-13F3-4601-A7B0-C77E716A0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F07EC5-FAD6-4A87-A95C-6EBC176FD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919CA7-9833-4BFE-8859-EC03F5489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DBC80-CAE3-403D-BC43-25F7A9A8A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0A4E29-D6C5-4E6B-8968-A11093EBD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A6B388-DDA0-4CA8-88D4-F68A92D94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74CA3F-8AC2-4720-997B-182F14AE5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7D0071-3E89-44D5-95D7-0606EE2F5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6F8978-E405-442D-98F8-3392F7589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3CD71C-75DD-4DF3-ADAB-BCDB86FA1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114C61-0437-43E1-B434-CC7802353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9DF5A1-9FFD-4F8D-854E-126A6FC5E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67F011-2253-4106-8265-AEC024D27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A2403E-29C1-4A4C-842C-54F5E286F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FB19D-6512-48C2-86A4-E5A30CABC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8A424B-3D9F-467E-AF7E-16D4F0E92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29DA58-1542-46C0-AB5B-B1D283017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6A2577-A031-4AAC-AB05-E00E20C9C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3C60A5-2674-42D9-85C7-4FEDCD529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210AA1-EB0A-4122-A1DB-F37A7208C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37862A-1B7F-4880-B3DD-25A7FC3AA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938411-7FA6-4FDF-934D-EFEB6F548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10C641-2D52-4BD7-AEF2-3A6348EDA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60B5F6-9195-4643-BEA8-145F0D1B2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3F0011-7EDB-4380-8EE8-DA956EC51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7D325-90A0-4D6D-8DD2-1349425DEDE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AAA0C-8236-44D1-A5D8-E0EFDCC8E8F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B4852-62CE-4300-A902-E11992C4F72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BE82D-377B-46BD-9922-05AAE2AB121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CF005-CED7-4C26-9A10-41353E8FF95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01677-A23B-4D8A-A7D2-9A2652749D6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69307-D81F-4EC5-A851-2963C26BC70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1B32F-56D0-4920-8253-CE836693C21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1820E-EC63-4415-B68B-D253F337E88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1CBA2-847C-4FAB-A603-5C67952C3A5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D8D43-C931-4E4E-8100-010CE5618D5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67016-E6A0-4218-AC68-0B3572D5938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B0E75-68FE-459C-B2F4-63340FA62C6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19529-759A-4914-89C2-F373E09F1C3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DC765-A239-4057-A92E-5D34B5FD070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1D84D-683B-41ED-A203-8312E7648B5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4EB80-DAC6-4403-8DFD-C73C3EF5920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33314-B615-499A-8D74-81BEB2BF0E7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35643-6FB2-486E-A636-F4F6178B93C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3D898-CDFC-4B2C-AB97-EE5D1F0688A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69EF0-858E-4407-BC30-F5724B1C3C8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459F7-1D36-44D3-97EC-1B136A500BE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47004-5C21-4986-9E41-D3DEA03BEB5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EA8D8-EEE0-4DE8-B4DC-7873064E76D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DEF17-D88F-421A-9A81-997225B46C7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FAB9F-AA9F-4F4D-A69E-2BEA91803F7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690C4-8C10-4D9A-BB12-12BF2D50A21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3D67D-901A-441C-AD95-A1F602DB4BD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1974600"/>
            <a:ext cx="0" cy="282708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69D04-214F-4B72-919B-8636543E5B0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131BD-1D9D-43B9-8543-5F56ACD5569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5C987-59C9-4248-BD93-A05AA28AB68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4BE4A-8E31-4339-894F-48DB9700A8C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21EF6-F558-4039-A0A7-D95CDE00586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8B1D3-C538-4368-BC09-1883C4C779F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DBD12-7560-47BE-AB0C-42C07C41D78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BDE36-EFB9-49E2-A5C1-2916D39C94A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775EF-33E4-4703-8298-FF49D2271D1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AE908-428E-49EF-9966-6F2E16E3C6B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CC955-D8AB-47CB-8A96-7BD46D978B1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7EA05-52B5-43FF-BE4B-E3192A45953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image" Target="../media/image12.png"/><Relationship Id="rId4" Type="http://schemas.openxmlformats.org/officeDocument/2006/relationships/image" Target="../media/image10.png"/><Relationship Id="rId5" Type="http://schemas.openxmlformats.org/officeDocument/2006/relationships/image" Target="../media/image12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468360" y="2843280"/>
            <a:ext cx="8207280" cy="65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2" name="图片 52231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867720" cy="1942920"/>
          </a:xfrm>
          <a:prstGeom prst="rect">
            <a:avLst/>
          </a:prstGeom>
          <a:ln w="0">
            <a:noFill/>
          </a:ln>
        </p:spPr>
      </p:pic>
      <p:pic>
        <p:nvPicPr>
          <p:cNvPr id="973" name="图片 52232" descr=""/>
          <p:cNvPicPr/>
          <p:nvPr/>
        </p:nvPicPr>
        <p:blipFill>
          <a:blip r:embed="rId2"/>
          <a:stretch/>
        </p:blipFill>
        <p:spPr>
          <a:xfrm>
            <a:off x="539640" y="3860640"/>
            <a:ext cx="8210520" cy="1305000"/>
          </a:xfrm>
          <a:prstGeom prst="rect">
            <a:avLst/>
          </a:prstGeom>
          <a:ln w="0">
            <a:noFill/>
          </a:ln>
        </p:spPr>
      </p:pic>
      <p:pic>
        <p:nvPicPr>
          <p:cNvPr id="974" name="Picture 1" descr=""/>
          <p:cNvPicPr/>
          <p:nvPr/>
        </p:nvPicPr>
        <p:blipFill>
          <a:blip r:embed="rId3"/>
          <a:stretch/>
        </p:blipFill>
        <p:spPr>
          <a:xfrm>
            <a:off x="4211640" y="194472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975" name="Picture 1" descr=""/>
          <p:cNvPicPr/>
          <p:nvPr/>
        </p:nvPicPr>
        <p:blipFill>
          <a:blip r:embed="rId4"/>
          <a:stretch/>
        </p:blipFill>
        <p:spPr>
          <a:xfrm>
            <a:off x="7221600" y="1916280"/>
            <a:ext cx="1022400" cy="447480"/>
          </a:xfrm>
          <a:prstGeom prst="rect">
            <a:avLst/>
          </a:prstGeom>
          <a:ln w="0">
            <a:noFill/>
          </a:ln>
        </p:spPr>
      </p:pic>
      <p:pic>
        <p:nvPicPr>
          <p:cNvPr id="976" name="Picture 1" descr=""/>
          <p:cNvPicPr/>
          <p:nvPr/>
        </p:nvPicPr>
        <p:blipFill>
          <a:blip r:embed="rId5"/>
          <a:stretch/>
        </p:blipFill>
        <p:spPr>
          <a:xfrm>
            <a:off x="4572000" y="2565360"/>
            <a:ext cx="1022400" cy="447840"/>
          </a:xfrm>
          <a:prstGeom prst="rect">
            <a:avLst/>
          </a:prstGeom>
          <a:ln w="0">
            <a:noFill/>
          </a:ln>
        </p:spPr>
      </p:pic>
      <p:pic>
        <p:nvPicPr>
          <p:cNvPr id="977" name="Picture 1" descr=""/>
          <p:cNvPicPr/>
          <p:nvPr/>
        </p:nvPicPr>
        <p:blipFill>
          <a:blip r:embed="rId6"/>
          <a:stretch/>
        </p:blipFill>
        <p:spPr>
          <a:xfrm>
            <a:off x="7380360" y="2506680"/>
            <a:ext cx="1022400" cy="447480"/>
          </a:xfrm>
          <a:prstGeom prst="rect">
            <a:avLst/>
          </a:prstGeom>
          <a:ln w="0">
            <a:noFill/>
          </a:ln>
        </p:spPr>
      </p:pic>
      <p:pic>
        <p:nvPicPr>
          <p:cNvPr id="978" name="Picture 1" descr=""/>
          <p:cNvPicPr/>
          <p:nvPr/>
        </p:nvPicPr>
        <p:blipFill>
          <a:blip r:embed="rId7"/>
          <a:stretch/>
        </p:blipFill>
        <p:spPr>
          <a:xfrm>
            <a:off x="1951200" y="3933720"/>
            <a:ext cx="1022040" cy="447840"/>
          </a:xfrm>
          <a:prstGeom prst="rect">
            <a:avLst/>
          </a:prstGeom>
          <a:ln w="0">
            <a:noFill/>
          </a:ln>
        </p:spPr>
      </p:pic>
      <p:pic>
        <p:nvPicPr>
          <p:cNvPr id="979" name="Picture 1" descr=""/>
          <p:cNvPicPr/>
          <p:nvPr/>
        </p:nvPicPr>
        <p:blipFill>
          <a:blip r:embed="rId8"/>
          <a:stretch/>
        </p:blipFill>
        <p:spPr>
          <a:xfrm>
            <a:off x="4759200" y="3948120"/>
            <a:ext cx="1022400" cy="44784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1" descr=""/>
          <p:cNvPicPr/>
          <p:nvPr/>
        </p:nvPicPr>
        <p:blipFill>
          <a:blip r:embed="rId9"/>
          <a:stretch/>
        </p:blipFill>
        <p:spPr>
          <a:xfrm>
            <a:off x="7927920" y="3962520"/>
            <a:ext cx="1022400" cy="447480"/>
          </a:xfrm>
          <a:prstGeom prst="rect">
            <a:avLst/>
          </a:prstGeom>
          <a:ln w="0">
            <a:noFill/>
          </a:ln>
        </p:spPr>
      </p:pic>
      <p:pic>
        <p:nvPicPr>
          <p:cNvPr id="981" name="Picture 1" descr=""/>
          <p:cNvPicPr/>
          <p:nvPr/>
        </p:nvPicPr>
        <p:blipFill>
          <a:blip r:embed="rId10"/>
          <a:stretch/>
        </p:blipFill>
        <p:spPr>
          <a:xfrm>
            <a:off x="1922400" y="4581360"/>
            <a:ext cx="1022400" cy="447840"/>
          </a:xfrm>
          <a:prstGeom prst="rect">
            <a:avLst/>
          </a:prstGeom>
          <a:ln w="0">
            <a:noFill/>
          </a:ln>
        </p:spPr>
      </p:pic>
      <p:pic>
        <p:nvPicPr>
          <p:cNvPr id="982" name="Picture 1" descr=""/>
          <p:cNvPicPr/>
          <p:nvPr/>
        </p:nvPicPr>
        <p:blipFill>
          <a:blip r:embed="rId11"/>
          <a:stretch/>
        </p:blipFill>
        <p:spPr>
          <a:xfrm>
            <a:off x="5105520" y="4581360"/>
            <a:ext cx="1022400" cy="447840"/>
          </a:xfrm>
          <a:prstGeom prst="rect">
            <a:avLst/>
          </a:prstGeom>
          <a:ln w="0">
            <a:noFill/>
          </a:ln>
        </p:spPr>
      </p:pic>
      <p:pic>
        <p:nvPicPr>
          <p:cNvPr id="983" name="Picture 1" descr=""/>
          <p:cNvPicPr/>
          <p:nvPr/>
        </p:nvPicPr>
        <p:blipFill>
          <a:blip r:embed="rId12"/>
          <a:stretch/>
        </p:blipFill>
        <p:spPr>
          <a:xfrm>
            <a:off x="7726320" y="4581360"/>
            <a:ext cx="102240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0" dur="100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5" dur="1000"/>
                                        <p:tgtEl>
                                          <p:spTgt spid="9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0" dur="1000"/>
                                        <p:tgtEl>
                                          <p:spTgt spid="9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5" dur="1000"/>
                                        <p:tgtEl>
                                          <p:spTgt spid="9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0" dur="1000"/>
                                        <p:tgtEl>
                                          <p:spTgt spid="9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5" dur="10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0" dur="1000"/>
                                        <p:tgtEl>
                                          <p:spTgt spid="9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5" dur="1000"/>
                                        <p:tgtEl>
                                          <p:spTgt spid="9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1000"/>
                                        <p:tgtEl>
                                          <p:spTgt spid="9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5" dur="1000"/>
                                        <p:tgtEl>
                                          <p:spTgt spid="9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2" name="图片 60428" descr=""/>
          <p:cNvPicPr/>
          <p:nvPr/>
        </p:nvPicPr>
        <p:blipFill>
          <a:blip r:embed="rId1"/>
          <a:stretch/>
        </p:blipFill>
        <p:spPr>
          <a:xfrm>
            <a:off x="276120" y="243000"/>
            <a:ext cx="8591760" cy="6372000"/>
          </a:xfrm>
          <a:prstGeom prst="rect">
            <a:avLst/>
          </a:prstGeom>
          <a:ln w="0">
            <a:noFill/>
          </a:ln>
        </p:spPr>
      </p:pic>
      <p:pic>
        <p:nvPicPr>
          <p:cNvPr id="923" name="Picture 1" descr=""/>
          <p:cNvPicPr/>
          <p:nvPr/>
        </p:nvPicPr>
        <p:blipFill>
          <a:blip r:embed="rId2"/>
          <a:stretch/>
        </p:blipFill>
        <p:spPr>
          <a:xfrm>
            <a:off x="3564000" y="3801960"/>
            <a:ext cx="4895640" cy="44784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1" descr=""/>
          <p:cNvPicPr/>
          <p:nvPr/>
        </p:nvPicPr>
        <p:blipFill>
          <a:blip r:embed="rId3"/>
          <a:stretch/>
        </p:blipFill>
        <p:spPr>
          <a:xfrm>
            <a:off x="3492360" y="4422600"/>
            <a:ext cx="4896000" cy="44784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1" descr=""/>
          <p:cNvPicPr/>
          <p:nvPr/>
        </p:nvPicPr>
        <p:blipFill>
          <a:blip r:embed="rId4"/>
          <a:stretch/>
        </p:blipFill>
        <p:spPr>
          <a:xfrm>
            <a:off x="4788000" y="5272200"/>
            <a:ext cx="936360" cy="44748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1" descr=""/>
          <p:cNvPicPr/>
          <p:nvPr/>
        </p:nvPicPr>
        <p:blipFill>
          <a:blip r:embed="rId5"/>
          <a:stretch/>
        </p:blipFill>
        <p:spPr>
          <a:xfrm>
            <a:off x="7480440" y="5300640"/>
            <a:ext cx="502920" cy="44784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1" descr=""/>
          <p:cNvPicPr/>
          <p:nvPr/>
        </p:nvPicPr>
        <p:blipFill>
          <a:blip r:embed="rId6"/>
          <a:stretch/>
        </p:blipFill>
        <p:spPr>
          <a:xfrm>
            <a:off x="6488280" y="5819760"/>
            <a:ext cx="50292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10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10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8" name="图片 59410" descr=""/>
          <p:cNvPicPr/>
          <p:nvPr/>
        </p:nvPicPr>
        <p:blipFill>
          <a:blip r:embed="rId1"/>
          <a:stretch/>
        </p:blipFill>
        <p:spPr>
          <a:xfrm>
            <a:off x="604800" y="900000"/>
            <a:ext cx="7934400" cy="505800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1" descr=""/>
          <p:cNvPicPr/>
          <p:nvPr/>
        </p:nvPicPr>
        <p:blipFill>
          <a:blip r:embed="rId2"/>
          <a:stretch/>
        </p:blipFill>
        <p:spPr>
          <a:xfrm>
            <a:off x="5508720" y="171468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930" name="图片 59412" descr=""/>
          <p:cNvPicPr/>
          <p:nvPr/>
        </p:nvPicPr>
        <p:blipFill>
          <a:blip r:embed="rId3"/>
          <a:stretch/>
        </p:blipFill>
        <p:spPr>
          <a:xfrm>
            <a:off x="1273320" y="1552680"/>
            <a:ext cx="3619440" cy="780840"/>
          </a:xfrm>
          <a:prstGeom prst="rect">
            <a:avLst/>
          </a:prstGeom>
          <a:ln w="0">
            <a:noFill/>
          </a:ln>
        </p:spPr>
      </p:pic>
      <p:pic>
        <p:nvPicPr>
          <p:cNvPr id="931" name="Picture 1" descr=""/>
          <p:cNvPicPr/>
          <p:nvPr/>
        </p:nvPicPr>
        <p:blipFill>
          <a:blip r:embed="rId4"/>
          <a:stretch/>
        </p:blipFill>
        <p:spPr>
          <a:xfrm>
            <a:off x="5522760" y="329580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932" name="图片 59414" descr=""/>
          <p:cNvPicPr/>
          <p:nvPr/>
        </p:nvPicPr>
        <p:blipFill>
          <a:blip r:embed="rId5"/>
          <a:stretch/>
        </p:blipFill>
        <p:spPr>
          <a:xfrm>
            <a:off x="1287360" y="3133800"/>
            <a:ext cx="3619440" cy="780840"/>
          </a:xfrm>
          <a:prstGeom prst="rect">
            <a:avLst/>
          </a:prstGeom>
          <a:ln w="0">
            <a:noFill/>
          </a:ln>
        </p:spPr>
      </p:pic>
      <p:pic>
        <p:nvPicPr>
          <p:cNvPr id="933" name="Picture 1" descr=""/>
          <p:cNvPicPr/>
          <p:nvPr/>
        </p:nvPicPr>
        <p:blipFill>
          <a:blip r:embed="rId6"/>
          <a:stretch/>
        </p:blipFill>
        <p:spPr>
          <a:xfrm>
            <a:off x="5796000" y="417816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934" name="Picture 1" descr=""/>
          <p:cNvPicPr/>
          <p:nvPr/>
        </p:nvPicPr>
        <p:blipFill>
          <a:blip r:embed="rId7"/>
          <a:stretch/>
        </p:blipFill>
        <p:spPr>
          <a:xfrm>
            <a:off x="3348000" y="4710240"/>
            <a:ext cx="936720" cy="447480"/>
          </a:xfrm>
          <a:prstGeom prst="rect">
            <a:avLst/>
          </a:prstGeom>
          <a:ln w="0">
            <a:noFill/>
          </a:ln>
        </p:spPr>
      </p:pic>
      <p:pic>
        <p:nvPicPr>
          <p:cNvPr id="935" name="Picture 1" descr=""/>
          <p:cNvPicPr/>
          <p:nvPr/>
        </p:nvPicPr>
        <p:blipFill>
          <a:blip r:embed="rId8"/>
          <a:stretch/>
        </p:blipFill>
        <p:spPr>
          <a:xfrm>
            <a:off x="5580000" y="4724280"/>
            <a:ext cx="2232000" cy="447840"/>
          </a:xfrm>
          <a:prstGeom prst="rect">
            <a:avLst/>
          </a:prstGeom>
          <a:ln w="0">
            <a:noFill/>
          </a:ln>
        </p:spPr>
      </p:pic>
      <p:pic>
        <p:nvPicPr>
          <p:cNvPr id="936" name="Picture 1" descr=""/>
          <p:cNvPicPr/>
          <p:nvPr/>
        </p:nvPicPr>
        <p:blipFill>
          <a:blip r:embed="rId9"/>
          <a:stretch/>
        </p:blipFill>
        <p:spPr>
          <a:xfrm>
            <a:off x="4989600" y="5257800"/>
            <a:ext cx="93636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7" dur="10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2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" dur="10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1" dur="10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6" dur="10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1" dur="10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6" dur="10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7" name="图片 76801" descr=""/>
          <p:cNvPicPr/>
          <p:nvPr/>
        </p:nvPicPr>
        <p:blipFill>
          <a:blip r:embed="rId1"/>
          <a:stretch/>
        </p:blipFill>
        <p:spPr>
          <a:xfrm>
            <a:off x="566640" y="1562040"/>
            <a:ext cx="8010720" cy="3733920"/>
          </a:xfrm>
          <a:prstGeom prst="rect">
            <a:avLst/>
          </a:prstGeom>
          <a:ln w="0">
            <a:noFill/>
          </a:ln>
        </p:spPr>
      </p:pic>
      <p:pic>
        <p:nvPicPr>
          <p:cNvPr id="938" name="Picture 1" descr=""/>
          <p:cNvPicPr/>
          <p:nvPr/>
        </p:nvPicPr>
        <p:blipFill>
          <a:blip r:embed="rId2"/>
          <a:stretch/>
        </p:blipFill>
        <p:spPr>
          <a:xfrm>
            <a:off x="2166840" y="236376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1" descr=""/>
          <p:cNvPicPr/>
          <p:nvPr/>
        </p:nvPicPr>
        <p:blipFill>
          <a:blip r:embed="rId3"/>
          <a:stretch/>
        </p:blipFill>
        <p:spPr>
          <a:xfrm>
            <a:off x="3463920" y="298296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940" name="Picture 1" descr=""/>
          <p:cNvPicPr/>
          <p:nvPr/>
        </p:nvPicPr>
        <p:blipFill>
          <a:blip r:embed="rId4"/>
          <a:stretch/>
        </p:blipFill>
        <p:spPr>
          <a:xfrm>
            <a:off x="5580000" y="2967120"/>
            <a:ext cx="2448000" cy="447480"/>
          </a:xfrm>
          <a:prstGeom prst="rect">
            <a:avLst/>
          </a:prstGeom>
          <a:ln w="0">
            <a:noFill/>
          </a:ln>
        </p:spPr>
      </p:pic>
      <p:pic>
        <p:nvPicPr>
          <p:cNvPr id="941" name="Picture 1" descr=""/>
          <p:cNvPicPr/>
          <p:nvPr/>
        </p:nvPicPr>
        <p:blipFill>
          <a:blip r:embed="rId5"/>
          <a:stretch/>
        </p:blipFill>
        <p:spPr>
          <a:xfrm>
            <a:off x="2195640" y="357336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942" name="Picture 1" descr=""/>
          <p:cNvPicPr/>
          <p:nvPr/>
        </p:nvPicPr>
        <p:blipFill>
          <a:blip r:embed="rId6"/>
          <a:stretch/>
        </p:blipFill>
        <p:spPr>
          <a:xfrm>
            <a:off x="5940360" y="3573360"/>
            <a:ext cx="1079640" cy="447840"/>
          </a:xfrm>
          <a:prstGeom prst="rect">
            <a:avLst/>
          </a:prstGeom>
          <a:ln w="0">
            <a:noFill/>
          </a:ln>
        </p:spPr>
      </p:pic>
      <p:pic>
        <p:nvPicPr>
          <p:cNvPr id="943" name="Picture 1" descr=""/>
          <p:cNvPicPr/>
          <p:nvPr/>
        </p:nvPicPr>
        <p:blipFill>
          <a:blip r:embed="rId7"/>
          <a:stretch/>
        </p:blipFill>
        <p:spPr>
          <a:xfrm>
            <a:off x="3419640" y="4149720"/>
            <a:ext cx="1657080" cy="447840"/>
          </a:xfrm>
          <a:prstGeom prst="rect">
            <a:avLst/>
          </a:prstGeom>
          <a:ln w="0">
            <a:noFill/>
          </a:ln>
        </p:spPr>
      </p:pic>
      <p:pic>
        <p:nvPicPr>
          <p:cNvPr id="944" name="Picture 1" descr=""/>
          <p:cNvPicPr/>
          <p:nvPr/>
        </p:nvPicPr>
        <p:blipFill>
          <a:blip r:embed="rId8"/>
          <a:stretch/>
        </p:blipFill>
        <p:spPr>
          <a:xfrm>
            <a:off x="6488280" y="4164120"/>
            <a:ext cx="502920" cy="447480"/>
          </a:xfrm>
          <a:prstGeom prst="rect">
            <a:avLst/>
          </a:prstGeom>
          <a:ln w="0">
            <a:noFill/>
          </a:ln>
        </p:spPr>
      </p:pic>
      <p:pic>
        <p:nvPicPr>
          <p:cNvPr id="945" name="Picture 1" descr=""/>
          <p:cNvPicPr/>
          <p:nvPr/>
        </p:nvPicPr>
        <p:blipFill>
          <a:blip r:embed="rId9"/>
          <a:stretch/>
        </p:blipFill>
        <p:spPr>
          <a:xfrm>
            <a:off x="2124000" y="4767120"/>
            <a:ext cx="172728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3" dur="10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8" dur="10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3" dur="10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8" dur="10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3" dur="10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8" dur="10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3" dur="10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8" dur="10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6" name="图片 58373" descr=""/>
          <p:cNvPicPr/>
          <p:nvPr/>
        </p:nvPicPr>
        <p:blipFill>
          <a:blip r:embed="rId1"/>
          <a:stretch/>
        </p:blipFill>
        <p:spPr>
          <a:xfrm>
            <a:off x="290520" y="985680"/>
            <a:ext cx="8562960" cy="4886640"/>
          </a:xfrm>
          <a:prstGeom prst="rect">
            <a:avLst/>
          </a:prstGeom>
          <a:ln w="0">
            <a:noFill/>
          </a:ln>
        </p:spPr>
      </p:pic>
      <p:pic>
        <p:nvPicPr>
          <p:cNvPr id="947" name="Picture 1" descr=""/>
          <p:cNvPicPr/>
          <p:nvPr/>
        </p:nvPicPr>
        <p:blipFill>
          <a:blip r:embed="rId2"/>
          <a:stretch/>
        </p:blipFill>
        <p:spPr>
          <a:xfrm>
            <a:off x="5219640" y="2565360"/>
            <a:ext cx="2808360" cy="447840"/>
          </a:xfrm>
          <a:prstGeom prst="rect">
            <a:avLst/>
          </a:prstGeom>
          <a:ln w="0">
            <a:noFill/>
          </a:ln>
        </p:spPr>
      </p:pic>
      <p:pic>
        <p:nvPicPr>
          <p:cNvPr id="948" name="Picture 1" descr=""/>
          <p:cNvPicPr/>
          <p:nvPr/>
        </p:nvPicPr>
        <p:blipFill>
          <a:blip r:embed="rId3"/>
          <a:stretch/>
        </p:blipFill>
        <p:spPr>
          <a:xfrm>
            <a:off x="5219640" y="3443400"/>
            <a:ext cx="2808360" cy="447480"/>
          </a:xfrm>
          <a:prstGeom prst="rect">
            <a:avLst/>
          </a:prstGeom>
          <a:ln w="0">
            <a:noFill/>
          </a:ln>
        </p:spPr>
      </p:pic>
      <p:pic>
        <p:nvPicPr>
          <p:cNvPr id="949" name="Picture 1" descr=""/>
          <p:cNvPicPr/>
          <p:nvPr/>
        </p:nvPicPr>
        <p:blipFill>
          <a:blip r:embed="rId4"/>
          <a:stretch/>
        </p:blipFill>
        <p:spPr>
          <a:xfrm>
            <a:off x="5219640" y="4307040"/>
            <a:ext cx="2808360" cy="447480"/>
          </a:xfrm>
          <a:prstGeom prst="rect">
            <a:avLst/>
          </a:prstGeom>
          <a:ln w="0">
            <a:noFill/>
          </a:ln>
        </p:spPr>
      </p:pic>
      <p:pic>
        <p:nvPicPr>
          <p:cNvPr id="950" name="Picture 1" descr=""/>
          <p:cNvPicPr/>
          <p:nvPr/>
        </p:nvPicPr>
        <p:blipFill>
          <a:blip r:embed="rId5"/>
          <a:stretch/>
        </p:blipFill>
        <p:spPr>
          <a:xfrm>
            <a:off x="5219640" y="5157720"/>
            <a:ext cx="280836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5" dur="10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0" dur="10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5" dur="10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0" dur="10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1" name="图片 57352" descr=""/>
          <p:cNvPicPr/>
          <p:nvPr/>
        </p:nvPicPr>
        <p:blipFill>
          <a:blip r:embed="rId1"/>
          <a:stretch/>
        </p:blipFill>
        <p:spPr>
          <a:xfrm>
            <a:off x="195120" y="766800"/>
            <a:ext cx="8753760" cy="5324400"/>
          </a:xfrm>
          <a:prstGeom prst="rect">
            <a:avLst/>
          </a:prstGeom>
          <a:ln w="0">
            <a:noFill/>
          </a:ln>
        </p:spPr>
      </p:pic>
      <p:pic>
        <p:nvPicPr>
          <p:cNvPr id="952" name="Picture 1" descr=""/>
          <p:cNvPicPr/>
          <p:nvPr/>
        </p:nvPicPr>
        <p:blipFill>
          <a:blip r:embed="rId2"/>
          <a:stretch/>
        </p:blipFill>
        <p:spPr>
          <a:xfrm>
            <a:off x="236520" y="3429000"/>
            <a:ext cx="1728720" cy="2808360"/>
          </a:xfrm>
          <a:prstGeom prst="rect">
            <a:avLst/>
          </a:prstGeom>
          <a:ln w="0">
            <a:noFill/>
          </a:ln>
        </p:spPr>
      </p:pic>
      <p:pic>
        <p:nvPicPr>
          <p:cNvPr id="953" name="Picture 1" descr=""/>
          <p:cNvPicPr/>
          <p:nvPr/>
        </p:nvPicPr>
        <p:blipFill>
          <a:blip r:embed="rId3"/>
          <a:stretch/>
        </p:blipFill>
        <p:spPr>
          <a:xfrm>
            <a:off x="1965240" y="3213000"/>
            <a:ext cx="2535480" cy="2808360"/>
          </a:xfrm>
          <a:prstGeom prst="rect">
            <a:avLst/>
          </a:prstGeom>
          <a:ln w="0">
            <a:noFill/>
          </a:ln>
        </p:spPr>
      </p:pic>
      <p:pic>
        <p:nvPicPr>
          <p:cNvPr id="954" name="Picture 1" descr=""/>
          <p:cNvPicPr/>
          <p:nvPr/>
        </p:nvPicPr>
        <p:blipFill>
          <a:blip r:embed="rId4"/>
          <a:stretch/>
        </p:blipFill>
        <p:spPr>
          <a:xfrm>
            <a:off x="2527200" y="2506680"/>
            <a:ext cx="1324080" cy="447480"/>
          </a:xfrm>
          <a:prstGeom prst="rect">
            <a:avLst/>
          </a:prstGeom>
          <a:ln w="0">
            <a:noFill/>
          </a:ln>
        </p:spPr>
      </p:pic>
      <p:pic>
        <p:nvPicPr>
          <p:cNvPr id="955" name="Picture 1" descr=""/>
          <p:cNvPicPr/>
          <p:nvPr/>
        </p:nvPicPr>
        <p:blipFill>
          <a:blip r:embed="rId5"/>
          <a:stretch/>
        </p:blipFill>
        <p:spPr>
          <a:xfrm>
            <a:off x="4572000" y="3371760"/>
            <a:ext cx="1728720" cy="2808360"/>
          </a:xfrm>
          <a:prstGeom prst="rect">
            <a:avLst/>
          </a:prstGeom>
          <a:ln w="0">
            <a:noFill/>
          </a:ln>
        </p:spPr>
      </p:pic>
      <p:pic>
        <p:nvPicPr>
          <p:cNvPr id="956" name="Picture 1" descr=""/>
          <p:cNvPicPr/>
          <p:nvPr/>
        </p:nvPicPr>
        <p:blipFill>
          <a:blip r:embed="rId6"/>
          <a:stretch/>
        </p:blipFill>
        <p:spPr>
          <a:xfrm>
            <a:off x="6300720" y="3357720"/>
            <a:ext cx="2664000" cy="2808000"/>
          </a:xfrm>
          <a:prstGeom prst="rect">
            <a:avLst/>
          </a:prstGeom>
          <a:ln w="0">
            <a:noFill/>
          </a:ln>
        </p:spPr>
      </p:pic>
      <p:pic>
        <p:nvPicPr>
          <p:cNvPr id="957" name="Picture 1" descr=""/>
          <p:cNvPicPr/>
          <p:nvPr/>
        </p:nvPicPr>
        <p:blipFill>
          <a:blip r:embed="rId7"/>
          <a:stretch/>
        </p:blipFill>
        <p:spPr>
          <a:xfrm>
            <a:off x="7020000" y="2565360"/>
            <a:ext cx="132408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7" dur="10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2" dur="10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7" dur="10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2" dur="10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7" dur="10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2" dur="10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8" name="图片 56324" descr=""/>
          <p:cNvPicPr/>
          <p:nvPr/>
        </p:nvPicPr>
        <p:blipFill>
          <a:blip r:embed="rId1"/>
          <a:stretch/>
        </p:blipFill>
        <p:spPr>
          <a:xfrm>
            <a:off x="357120" y="1609560"/>
            <a:ext cx="8429760" cy="3638880"/>
          </a:xfrm>
          <a:prstGeom prst="rect">
            <a:avLst/>
          </a:prstGeom>
          <a:ln w="0">
            <a:noFill/>
          </a:ln>
        </p:spPr>
      </p:pic>
      <p:pic>
        <p:nvPicPr>
          <p:cNvPr id="959" name="Picture 1" descr=""/>
          <p:cNvPicPr/>
          <p:nvPr/>
        </p:nvPicPr>
        <p:blipFill>
          <a:blip r:embed="rId2"/>
          <a:stretch/>
        </p:blipFill>
        <p:spPr>
          <a:xfrm>
            <a:off x="266760" y="2276640"/>
            <a:ext cx="2087640" cy="2808000"/>
          </a:xfrm>
          <a:prstGeom prst="rect">
            <a:avLst/>
          </a:prstGeom>
          <a:ln w="0">
            <a:noFill/>
          </a:ln>
        </p:spPr>
      </p:pic>
      <p:pic>
        <p:nvPicPr>
          <p:cNvPr id="960" name="Picture 1" descr=""/>
          <p:cNvPicPr/>
          <p:nvPr/>
        </p:nvPicPr>
        <p:blipFill>
          <a:blip r:embed="rId3"/>
          <a:stretch/>
        </p:blipFill>
        <p:spPr>
          <a:xfrm>
            <a:off x="2340000" y="2205000"/>
            <a:ext cx="2087640" cy="2808360"/>
          </a:xfrm>
          <a:prstGeom prst="rect">
            <a:avLst/>
          </a:prstGeom>
          <a:ln w="0">
            <a:noFill/>
          </a:ln>
        </p:spPr>
      </p:pic>
      <p:pic>
        <p:nvPicPr>
          <p:cNvPr id="961" name="Picture 1" descr=""/>
          <p:cNvPicPr/>
          <p:nvPr/>
        </p:nvPicPr>
        <p:blipFill>
          <a:blip r:embed="rId4"/>
          <a:stretch/>
        </p:blipFill>
        <p:spPr>
          <a:xfrm>
            <a:off x="2771640" y="1628640"/>
            <a:ext cx="1224000" cy="447840"/>
          </a:xfrm>
          <a:prstGeom prst="rect">
            <a:avLst/>
          </a:prstGeom>
          <a:ln w="0">
            <a:noFill/>
          </a:ln>
        </p:spPr>
      </p:pic>
      <p:pic>
        <p:nvPicPr>
          <p:cNvPr id="962" name="Picture 1" descr=""/>
          <p:cNvPicPr/>
          <p:nvPr/>
        </p:nvPicPr>
        <p:blipFill>
          <a:blip r:embed="rId5"/>
          <a:stretch/>
        </p:blipFill>
        <p:spPr>
          <a:xfrm>
            <a:off x="4788000" y="2363760"/>
            <a:ext cx="2087640" cy="2808360"/>
          </a:xfrm>
          <a:prstGeom prst="rect">
            <a:avLst/>
          </a:prstGeom>
          <a:ln w="0">
            <a:noFill/>
          </a:ln>
        </p:spPr>
      </p:pic>
      <p:pic>
        <p:nvPicPr>
          <p:cNvPr id="963" name="Picture 1" descr=""/>
          <p:cNvPicPr/>
          <p:nvPr/>
        </p:nvPicPr>
        <p:blipFill>
          <a:blip r:embed="rId6"/>
          <a:stretch/>
        </p:blipFill>
        <p:spPr>
          <a:xfrm>
            <a:off x="6877080" y="2276640"/>
            <a:ext cx="2087640" cy="2808000"/>
          </a:xfrm>
          <a:prstGeom prst="rect">
            <a:avLst/>
          </a:prstGeom>
          <a:ln w="0">
            <a:noFill/>
          </a:ln>
        </p:spPr>
      </p:pic>
      <p:pic>
        <p:nvPicPr>
          <p:cNvPr id="964" name="Picture 1" descr=""/>
          <p:cNvPicPr/>
          <p:nvPr/>
        </p:nvPicPr>
        <p:blipFill>
          <a:blip r:embed="rId7"/>
          <a:stretch/>
        </p:blipFill>
        <p:spPr>
          <a:xfrm>
            <a:off x="7250040" y="1614600"/>
            <a:ext cx="122400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9" dur="10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4" dur="10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9" dur="10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4" dur="10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9" dur="10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4" dur="10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5" name="图片 55300" descr=""/>
          <p:cNvPicPr/>
          <p:nvPr/>
        </p:nvPicPr>
        <p:blipFill>
          <a:blip r:embed="rId1"/>
          <a:stretch/>
        </p:blipFill>
        <p:spPr>
          <a:xfrm>
            <a:off x="324000" y="1176480"/>
            <a:ext cx="8496000" cy="4505040"/>
          </a:xfrm>
          <a:prstGeom prst="rect">
            <a:avLst/>
          </a:prstGeom>
          <a:ln w="0">
            <a:noFill/>
          </a:ln>
        </p:spPr>
      </p:pic>
      <p:pic>
        <p:nvPicPr>
          <p:cNvPr id="966" name="Picture 1" descr=""/>
          <p:cNvPicPr/>
          <p:nvPr/>
        </p:nvPicPr>
        <p:blipFill>
          <a:blip r:embed="rId2"/>
          <a:stretch/>
        </p:blipFill>
        <p:spPr>
          <a:xfrm>
            <a:off x="5724360" y="3255840"/>
            <a:ext cx="792360" cy="447840"/>
          </a:xfrm>
          <a:prstGeom prst="rect">
            <a:avLst/>
          </a:prstGeom>
          <a:ln w="0">
            <a:noFill/>
          </a:ln>
        </p:spPr>
      </p:pic>
      <p:pic>
        <p:nvPicPr>
          <p:cNvPr id="967" name="Picture 1" descr=""/>
          <p:cNvPicPr/>
          <p:nvPr/>
        </p:nvPicPr>
        <p:blipFill>
          <a:blip r:embed="rId3"/>
          <a:stretch/>
        </p:blipFill>
        <p:spPr>
          <a:xfrm>
            <a:off x="7380360" y="3284640"/>
            <a:ext cx="792000" cy="447480"/>
          </a:xfrm>
          <a:prstGeom prst="rect">
            <a:avLst/>
          </a:prstGeom>
          <a:ln w="0">
            <a:noFill/>
          </a:ln>
        </p:spPr>
      </p:pic>
      <p:pic>
        <p:nvPicPr>
          <p:cNvPr id="968" name="Picture 1" descr=""/>
          <p:cNvPicPr/>
          <p:nvPr/>
        </p:nvPicPr>
        <p:blipFill>
          <a:blip r:embed="rId4"/>
          <a:stretch/>
        </p:blipFill>
        <p:spPr>
          <a:xfrm>
            <a:off x="1979640" y="4091040"/>
            <a:ext cx="792000" cy="447480"/>
          </a:xfrm>
          <a:prstGeom prst="rect">
            <a:avLst/>
          </a:prstGeom>
          <a:ln w="0">
            <a:noFill/>
          </a:ln>
        </p:spPr>
      </p:pic>
      <p:pic>
        <p:nvPicPr>
          <p:cNvPr id="969" name="Picture 1" descr=""/>
          <p:cNvPicPr/>
          <p:nvPr/>
        </p:nvPicPr>
        <p:blipFill>
          <a:blip r:embed="rId5"/>
          <a:stretch/>
        </p:blipFill>
        <p:spPr>
          <a:xfrm>
            <a:off x="3924360" y="4956120"/>
            <a:ext cx="79200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1" dur="10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6" dur="10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1" dur="10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6" dur="10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0" name="图片 54276" descr=""/>
          <p:cNvPicPr/>
          <p:nvPr/>
        </p:nvPicPr>
        <p:blipFill>
          <a:blip r:embed="rId1"/>
          <a:stretch/>
        </p:blipFill>
        <p:spPr>
          <a:xfrm>
            <a:off x="490680" y="762120"/>
            <a:ext cx="8162640" cy="5333760"/>
          </a:xfrm>
          <a:prstGeom prst="rect">
            <a:avLst/>
          </a:prstGeom>
          <a:ln w="0">
            <a:noFill/>
          </a:ln>
        </p:spPr>
      </p:pic>
      <p:pic>
        <p:nvPicPr>
          <p:cNvPr id="971" name="Picture 1" descr=""/>
          <p:cNvPicPr/>
          <p:nvPr/>
        </p:nvPicPr>
        <p:blipFill>
          <a:blip r:embed="rId2"/>
          <a:stretch/>
        </p:blipFill>
        <p:spPr>
          <a:xfrm>
            <a:off x="2843280" y="5430960"/>
            <a:ext cx="100800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3" dur="10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16T07:00:31Z</dcterms:modified>
  <cp:revision>2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